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1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58CE-62DA-4287-A227-8473D976DD15}" type="slidenum">
              <a:rPr b="0" lang="en-US" sz="1200" spc="-1" strike="noStrike">
                <a:solidFill>
                  <a:srgbClr val="01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D316-5E86-4986-9A36-4AC3662E4ACB}"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do the right interventions if we don’t recognize the condition.  We developed the bundle but did not change our processes for early recognition.  The nurses at the bedside are the key to early recognition.  Physician responsiveness to their findings with immediate assessment and appropriate work-up and treatment initiations are the next step that needs to happen.  So, how do we do this at CCRMC</a:t>
            </a:r>
            <a:endParaRPr b="0" lang="en-US" sz="1200" spc="-1" strike="noStrike">
              <a:solidFill>
                <a:srgbClr val="000000"/>
              </a:solidFill>
              <a:latin typeface="Arial"/>
            </a:endParaRPr>
          </a:p>
        </p:txBody>
      </p:sp>
      <p:sp>
        <p:nvSpPr>
          <p:cNvPr id="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E143-B71C-484C-B918-B89D3118270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1384-4BF0-4336-93CD-A20244233C8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dications of infection and the immunomodulatory response to infection are defined by the SIRS criteria.  It should be noted that the SIRS criteria can be a response to non-infectious stimul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6060-00E5-41F8-88C5-F2E8AD11EF69}"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S can exist in the absence of infection as part of an immunomadulated response to acute stress of many different origi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05C5-A56F-4E74-9C44-DFD49AA72D4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7BBE-321E-4807-86C8-225287741EC1}"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 release of cytokines (powerful inflammatory mediators) which starts in SIRS contribute to the progression to severe sepsis and septic shock.  These mediators have a key role in precipitating nitric oxide synthesis which results in decreased systemic vascular resistance.  Decreased response to vasopressors because of the nitric oxide and acidemia.  Hypothesis that mitochondrial dysfunction leads to decreased oxygen extraction capabilitiies and possibly myocardial dysfun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D948-8690-48F7-845E-400602E7E74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BEDE-0F63-458B-9613-1DE8B49E80BD}"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terventions have been the core of treatment for septic patients for 30 years.  They will remain the core principles of treatment.  What has changed is our understanding of the urgency with which these interventions are applied and the impact of their early institution on morbidity and mortali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9975-A814-4102-A7E6-34E96B90540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of care interventions have not changed but the time in which they are administered and the parameters we use to assess our interventions hav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NT=6 in EG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of principles similar to what has been demonstrated in the response to Acute Myocardial Infar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ity improvements with decreased organ failure and hospital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F832-42C9-4D3D-A405-A46163328F1D}"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lide I presented 5 years ago when I first got this bee in my bon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000 cases with 210,000.  More deaths due to sepsis than to 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ny thing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33C5-CEDB-4047-B382-9EC5B5D9E37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n by the recognition that vital signs do not adequately reflect the severity of the sepsis syndrome.  Global tissue hypoxia often and usually precedes hypotension in the septic patient.  Therefore, we need to find parameters that more accurately reflect the altered hemodynamics of our septic patients so that we can respond in a timely fashion with the most aggressive and life-saving treat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ake our responsiveness more timely WE have to be more timely in our recognition of early signs of sepsis and recognize that many of our patients will present with some atypical features of sepsis (will not mount a fever because elderly, immunocompromised, etc.)  Won’t have tachycardia b/c is beta-blocked.    The idea of the screening tool is to give a framework to thinking about data that is already being collected by bedside nursing to help guide an assessment for the possibility that the patient may be manifesting early signs of sepsis.  We recognize that the abnormalities could have alternative etiologies and that is why a key component of the tool is to include that there is a suspected or confirmed infection.  </a:t>
            </a: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8AAA-4C97-4218-8322-45F49D09CF66}"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723C-57CF-4726-95F6-2B2B9C00D7E0}"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be clear about who is our target population in order to maximize the benefit of our interventions.  The starting point is usually the patient with abnormal vital signs (fever, tachycardia or tachypnea) with some localizing infectious signs.  This is often something that is going to be recognized by the nurse who is doing the vital signs either on the floor or in triage.  At that point it is important to recognize the potential of early sepsis and take the next step of measuring the BP and CBC and  LA  to assess the severity of the current illnes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92E4-7714-46DB-B8FA-1945A405754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43A2-3EE0-4C28-9243-8B7A9C649DFD}"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olus of 20-30ml/kg over 30minutes followed by repeated 500ml boluses every 30 minutes to achieve goal CVP or MAP/SBP.  There is no data to sujpport that there is a benefit to colloid over crystall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ic therapy: Treat to suspected source. If unclear source, Monotherapy with 3rd or 4th generation cephalosporin or carbapenem is sufficient in non-neutropenic patie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F973-2829-4951-8049-C3BC19312C0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echanically ventilated patients, a higher target central venous pressure of 12-15 mm Hg is recommended to account for the increased intrathoracic pressure.  Similar consideration may be warranted in circumstances of increased abdominal pressure.Ventilated patients: goal CV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49C8-74D1-4C9C-B68D-DF661D2F878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harmacy is preparing antibiotics, blood, urine and sputum cultures should be collected in order to facilitate pre-antibiotic culture collection and timely administration of antibiotics.  If the patient is in hypotensive than new access should be established and the central line should  be pull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5A63-5CFA-4656-B6F7-CEAE8C49702C}"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ed access is subclavian or jugular line.  However, femoral line is sufficient to measure CVP.    The CVP tells us about the adequacy of our fluid resuscitation.  Fluid resuscitation is insufficient until we reach a CVP of 8.  The importance of this cannot be underestimated as initiating vasopressor therapy in the absence of adequate volume is useless and possibly detrimental  If we It is unclear if the Scv02 measurements from a femoral line are equivalent to  IJ or SC li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6106-2B47-434D-BEE3-F80BA15EA4ED}"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being that if the oxygen extraction rate is resulting in a Scv02&lt;70% then there is a demand that is exceeding the supply and therefore that by improving oxygen delivery through maximizing carrying capacity by transfusions and maximizing delivery by increasing cardiac index with dobutamin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05B6-D824-42A0-828D-BE9086078686}"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secondary goals that do not have a clear role in the algorithm but are nonetheless important to review in these patients.  For instance, the treating physician may decide to push the fluid boluses up to a greater CVP in order to achieve an adequate urine output.  In addition, oxygen supplementation will likely be part of most patients care in order to maximize oxygenation.  Certainly, if the patient has respiratory failure then mechanical ventilation will become part of the initial caare algorith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5258-DCB8-4FED-B70E-3B6657300B2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4DA7-A743-4CC4-ADD2-0E56F05FCA8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ing is going to be at the frontlines of really implementing this protocol because you are the ones who are going to recognize the patients.  You  take the vital signs you get the initial story that gives the hints of localization.  For the nurses in the ICU, you are already receiving the patient who has been recognized to be in severe sepsis or septic shock and your role is going to be the enactment of the protocol with the attention to prioritiz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21B8-3B37-497E-A44C-0E9CCC7FFC3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im about localizing symptoms.  Does he meet the SIRS criteria?  Yes, he has a fever and tachypnea.  In addition, he is on a beta-blocker which may be masking a tachycardia.  Order full culture work up including blood, urine, sputum CXR.   You call the primary MD and suggest  he order the above work up as well as a CBC and Lactic Acid level.  While you are talking with him on the phone the alarm goes off because his blood pressure has dropped to 85/40.  You suggest that the MD come and take a look at hi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6EDD-EB3E-40F8-B494-91D1295A1BF7}"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he was admitted with ACS you want to be clear that this is not cardiogenic shock secondary to an MI.  However, he has ruled out and as you review the history you find that his left sided chest pain has had a pleuritic component and he had a low grade fever on  admission. You now think that his chest pain was likely from a developing pneumonia.  Your priority is to reestablish normotension with fluids if possible and to administer antibiotics after you have pan-cultured him.  All anti-hypertensives should clearly be stopped.  An initial bolus of 20-30ml/kg should be given immediately and antibiotics administered after blood cultures are draw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CBEB-B86B-40AE-BB90-F015BAD9280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eets the criteria because he has a suspected site of infection (lung), SIRS with a LA&gt;4.  He had an adequate response to your initial fluid resuscitation so he doesn’t have persitent hypotension but the high LA suggets diffuse hypoperfusion and he needs aggressive fluid resuscitation and close monitoring of BP.  The next step is to place a central venous catheter so that you can titrate fluids to CVP 8-12.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E2CC-9E60-4CB1-A328-58DFD97151BB}"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boluses should be repeated every 30 minutes until CVP goal is re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pressors should be considered at this point since the patient is now clearly having persistent hypotension.  Pressors won’t work on an empty tank so it is important to get the volume up to make the pressors effective. In addition, an ongoing acidemia decreases the efficacy of vasopressor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8149-3B8E-4EBC-87AF-C71D92C8B1D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607D-12E1-4EB7-A7DA-ABBE3AFF230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6E86-4A02-4443-880A-8AB6B04C37DC}"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above your ScvO2 goal already so you do not want to start him on inotropic therapy with dopamine.  If he was below 70% than you would want to transfuse him as the first step prior to starting inotropic therapy.  The goal set in the study was transfuse to HCT &gt;30% and than if ScvO2 remained below 70% than to initiate dobutaamine.  The idea is to increase the O2 delivery through increasing RBC volume and Cardiac Index.  However, now it is time to consider other potential interventions: APC, normoglycemia, Stress dose steroi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year that we have a more expanded ICD-9 definitions of sepsis and probably most accurately capture our cases is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or years are limited to only the ICD-9 codes of sepsis, bacteremia or septic shock.  So, we are probably right about at the national average wit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resents about 20% of our hospital admissions on an annual basis far exceeding our admit rates for any other life-threatening con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a condition we can fix here without having to transfer our patients to another facility for cath or complicated surgeries/procedures.  But, we can’t and won’t do this unless we are able to recognize these cases early and treat them in a timely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957D-EEBD-4647-8DDF-6F83FC19699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88AC2-D6AC-49A1-85A7-85EB9E453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D85E5-BA84-483D-9C24-12B7A0527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8A23A-D63D-4CE0-8BC3-74E46ED02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90292-DDE7-4D4C-907F-E75953E07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8D124-4950-4509-9AE6-666BA1BFA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4AECE-FCEE-4993-B7FA-AAD720FE0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74977-7EE2-48A8-99B1-873BC30E9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2894D-AEE4-4B33-8A67-FCF95BBB6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BBBA8-B71F-4BC9-82E1-2DD756E6F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6804A-91C6-488A-AE77-B718DCCC0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00EB2-8EBD-4FFC-937D-D56C79DD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8EA11-0CEF-478D-960A-228326090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68E6-8A7D-4951-A837-19E1057B7870}" type="slidenum">
              <a:rPr b="0"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17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10000"/>
                </a:solidFill>
                <a:latin typeface="Tahoma"/>
              </a:rPr>
              <a:t>Surviving Sepsis</a:t>
            </a:r>
            <a:endParaRPr b="0" lang="en-US" sz="6600" spc="-1" strike="noStrike">
              <a:solidFill>
                <a:srgbClr val="ffffff"/>
              </a:solidFill>
              <a:latin typeface="Tahoma"/>
            </a:endParaRPr>
          </a:p>
        </p:txBody>
      </p:sp>
      <p:sp>
        <p:nvSpPr>
          <p:cNvPr id="49" name="PlaceHolder 2"/>
          <p:cNvSpPr>
            <a:spLocks noGrp="1"/>
          </p:cNvSpPr>
          <p:nvPr>
            <p:ph type="subTitle"/>
          </p:nvPr>
        </p:nvSpPr>
        <p:spPr>
          <a:xfrm>
            <a:off x="1523520" y="2438280"/>
            <a:ext cx="6705720" cy="2286000"/>
          </a:xfrm>
          <a:prstGeom prst="rect">
            <a:avLst/>
          </a:prstGeom>
          <a:noFill/>
          <a:ln w="0">
            <a:noFill/>
          </a:ln>
          <a:effectLst>
            <a:outerShdw dist="12727" dir="2700000" blurRad="0" rotWithShape="0">
              <a:srgbClr val="808080">
                <a:alpha val="75000"/>
              </a:srgbClr>
            </a:outerShdw>
          </a:effectLst>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Recognition, Resuscitation and Rapid Interventions</a:t>
            </a:r>
            <a:endParaRPr b="0" lang="en-US" sz="4800" spc="-1" strike="noStrike">
              <a:solidFill>
                <a:srgbClr val="ffffff"/>
              </a:solidFill>
              <a:latin typeface="Tahoma"/>
            </a:endParaRPr>
          </a:p>
        </p:txBody>
      </p:sp>
      <p:sp>
        <p:nvSpPr>
          <p:cNvPr id="50" name="Text Box 5"/>
          <p:cNvSpPr/>
          <p:nvPr/>
        </p:nvSpPr>
        <p:spPr>
          <a:xfrm>
            <a:off x="3154680" y="4952880"/>
            <a:ext cx="26586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ra Levin, MD</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ril 30, 2010</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year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60"/>
            <a:ext cx="84582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000"/>
                </a:solidFill>
                <a:latin typeface="Tahoma"/>
              </a:rPr>
              <a:t>State of Sepsis - 2010</a:t>
            </a:r>
            <a:endParaRPr b="0" lang="en-US" sz="4400" spc="-1" strike="noStrike">
              <a:solidFill>
                <a:srgbClr val="ffffff"/>
              </a:solidFill>
              <a:latin typeface="Tahoma"/>
            </a:endParaRPr>
          </a:p>
        </p:txBody>
      </p:sp>
      <p:sp>
        <p:nvSpPr>
          <p:cNvPr id="74" name=""/>
          <p:cNvSpPr txBox="1"/>
          <p:nvPr/>
        </p:nvSpPr>
        <p:spPr>
          <a:xfrm>
            <a:off x="0" y="1066320"/>
            <a:ext cx="9144000" cy="57913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sful Intervention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DT (Rivers, et al., NEJM 11/8/01):</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ergency Dept. Recognition of Severe Sepsis/Septic shock with EGDT. NNT=6</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sis Screening Tools in SICU identified with a Sensitivity and PPV of 96.5% and 80.2%, respectively. A NPV of 99.5% (Moore LJ, et al. J trauma 2009;66:1539-47)</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tality reduced from 35% to 23% (NNT=8)</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Early Recognition &amp; Intervention is the KEY!!</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INLP) Stomp Out Sepsis Campaign: </a:t>
            </a:r>
            <a:endParaRPr b="0" lang="en-US" sz="4400" spc="-1" strike="noStrike">
              <a:solidFill>
                <a:srgbClr val="ffffff"/>
              </a:solidFill>
              <a:latin typeface="Tahoma"/>
            </a:endParaRPr>
          </a:p>
        </p:txBody>
      </p:sp>
      <p:sp>
        <p:nvSpPr>
          <p:cNvPr id="76" name=""/>
          <p:cNvSpPr txBox="1"/>
          <p:nvPr/>
        </p:nvSpPr>
        <p:spPr>
          <a:xfrm>
            <a:off x="685800" y="1980720"/>
            <a:ext cx="7772400" cy="487692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itiative of the Integrated Nurse Leadership Program funded by the Betty Moore Foundation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 #1 Goal:  “To Reduce Mortality in Severe Sepsis by 15%”</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Improve the early recognition and early guidelines-based treatment interventions for patients with or at risk for severe sepsis or septic shock.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evelop sustaining plans, including policies, procedures, new processes, new tools, new orientation approach”</a:t>
            </a:r>
            <a:r>
              <a:rPr b="0" lang="en-US" sz="2400" spc="-1" strike="noStrike">
                <a:solidFill>
                  <a:srgbClr val="ffffff"/>
                </a:solidFill>
                <a:latin typeface="Tahoma"/>
              </a:rPr>
              <a:t>	</a:t>
            </a:r>
            <a:endParaRPr b="0" lang="en-US" sz="24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sepsis screening tool 95% of the time in all units</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EGDT bundle in severe sepsis/shock 85% of the time</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SOS (Stomp Out Sepsis) Team: </a:t>
            </a:r>
            <a:endParaRPr b="0" lang="en-US" sz="4400" spc="-1" strike="noStrike">
              <a:solidFill>
                <a:srgbClr val="ffffff"/>
              </a:solidFill>
              <a:latin typeface="Tahoma"/>
            </a:endParaRPr>
          </a:p>
        </p:txBody>
      </p:sp>
      <p:sp>
        <p:nvSpPr>
          <p:cNvPr id="78" name=""/>
          <p:cNvSpPr txBox="1"/>
          <p:nvPr/>
        </p:nvSpPr>
        <p:spPr>
          <a:xfrm>
            <a:off x="0" y="1523880"/>
            <a:ext cx="914400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elle Kenned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kiko Rodriguez, RN, E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spreet Benepal,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Neil Jaysekera, M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es Kotchevar,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m Hauer, RN, 4B</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thy Ferris, RN, I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yra Mellena,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e Batterton, Lab Dir.</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p Norwood,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on Sihota, Phar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rlyn Marmbett,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Jane Yimbo, Ed/Tr.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ayne Dixon, RN, 4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ol Lucido, RN, E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eresita Into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na Garro, RN, Q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Luz Baldoz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na Peter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elena Martey,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Murph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enise Donnelly</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raka Peters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ara Levin, MD</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0" name="PlaceHolder 2"/>
          <p:cNvSpPr>
            <a:spLocks noGrp="1"/>
          </p:cNvSpPr>
          <p:nvPr>
            <p:ph/>
          </p:nvPr>
        </p:nvSpPr>
        <p:spPr>
          <a:xfrm>
            <a:off x="685800" y="15238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91600" indent="-291600">
              <a:lnSpc>
                <a:spcPct val="90000"/>
              </a:lnSpc>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ystemic Inflammatory Response Syndrome (SIRS)</a:t>
            </a:r>
            <a:r>
              <a:rPr b="0" lang="en-US" sz="3400" spc="-1" strike="noStrike">
                <a:solidFill>
                  <a:srgbClr val="ffffff"/>
                </a:solidFill>
                <a:latin typeface="Tahoma"/>
              </a:rPr>
              <a:t>:</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emperature &gt;100.4 or &lt;96.8</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eart Rate &gt;90</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espiratory Rate&gt;20 or PaCO2&lt;32</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BC&gt;12,000 or &lt;4000</a:t>
            </a:r>
            <a:endParaRPr b="0" lang="en-US" sz="3400" spc="-1" strike="noStrike">
              <a:solidFill>
                <a:srgbClr val="ffffff"/>
              </a:solidFill>
              <a:latin typeface="Tahoma"/>
            </a:endParaRPr>
          </a:p>
          <a:p>
            <a:pPr marL="291600" indent="-291600">
              <a:lnSpc>
                <a:spcPct val="90000"/>
              </a:lnSpc>
              <a:spcBef>
                <a:spcPts val="77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SIRS can be self limited or can progress to septic shock.</a:t>
            </a:r>
            <a:endParaRPr b="0" lang="en-US" sz="3100" spc="-1" strike="noStrike">
              <a:solidFill>
                <a:srgbClr val="ffffff"/>
              </a:solidFill>
              <a:latin typeface="Tahoma"/>
            </a:endParaRPr>
          </a:p>
          <a:p>
            <a:pPr lvl="2" marL="971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97128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9712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31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at least 2 of 4 SIRS criteria</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e Sepsis:</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2 of 4 SIRS criteria and evidence of organ dysfunction and/or global hypoperfusion (lactic acid &gt;4mmol/L)</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ic Shock: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sis with acute circulatory failure marked by persistent hypotension after an adequate fluid resuscitation (20-30ml/kg over 30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microorganisms that seem to have it in for us….turn out…to be rather more like bystanders…it is our response to their presence that makes the disease.  Our arsenal for fighting off bacteria are so powerful…that we are more in danger from them than the invaders.”   -Lewis Thomas</a:t>
            </a:r>
            <a:endParaRPr b="0" lang="en-US" sz="3200" spc="-1" strike="noStrike">
              <a:solidFill>
                <a:srgbClr val="ffffff"/>
              </a:solidFill>
              <a:latin typeface="Tahoma"/>
            </a:endParaRPr>
          </a:p>
        </p:txBody>
      </p:sp>
      <p:sp>
        <p:nvSpPr>
          <p:cNvPr id="85" name="Text Box 4"/>
          <p:cNvSpPr/>
          <p:nvPr/>
        </p:nvSpPr>
        <p:spPr>
          <a:xfrm>
            <a:off x="3692160" y="6354720"/>
            <a:ext cx="41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tchkiss, RS, et al. NEJM 348:2:200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sis</a:t>
            </a:r>
            <a:r>
              <a:rPr b="0" lang="en-US" sz="3200" spc="-1" strike="noStrike" u="sng">
                <a:solidFill>
                  <a:srgbClr val="ffffff"/>
                </a:solidFill>
                <a:uFillTx/>
                <a:latin typeface="Tahoma"/>
              </a:rPr>
              <a:t> </a:t>
            </a:r>
            <a:r>
              <a:rPr b="0" lang="en-US" sz="3200" spc="-1" strike="noStrike">
                <a:solidFill>
                  <a:srgbClr val="ffffff"/>
                </a:solidFill>
                <a:latin typeface="Tahoma"/>
              </a:rPr>
              <a:t>- SIRS with suspected infection</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ease of inflammatory mediators resulting in arterial vasodilatation</a:t>
            </a:r>
            <a:endParaRPr b="0" lang="en-US" sz="2800" spc="-1" strike="noStrike">
              <a:solidFill>
                <a:srgbClr val="ffffff"/>
              </a:solidFill>
              <a:latin typeface="Tahoma"/>
            </a:endParaRPr>
          </a:p>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vere sepsis</a:t>
            </a:r>
            <a:r>
              <a:rPr b="0" lang="en-US" sz="3200" spc="-1" strike="noStrike">
                <a:solidFill>
                  <a:srgbClr val="ffffff"/>
                </a:solidFill>
                <a:latin typeface="Tahoma"/>
              </a:rPr>
              <a:t> is marked by organ dysfunction because of tissue ischemia. </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match of oxygen demand and supply</a:t>
            </a:r>
            <a:endParaRPr b="0" lang="en-US" sz="28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ssue ischemia progresses to multiple organ fail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tic Shock</a:t>
            </a:r>
            <a:r>
              <a:rPr b="0" lang="en-US" sz="3200" spc="-1" strike="noStrike">
                <a:solidFill>
                  <a:srgbClr val="ffffff"/>
                </a:solidFill>
                <a:latin typeface="Tahoma"/>
              </a:rPr>
              <a:t> - the end stage of sepsis syndrome with circulatory collapse.</a:t>
            </a:r>
            <a:endParaRPr b="0" lang="en-US" sz="32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mortality rate in sepsis is due to multiple organ failure and cardiovascular failure resulting in death.  </a:t>
            </a:r>
            <a:endParaRPr b="0" lang="en-US" sz="2800" spc="-1" strike="noStrike">
              <a:solidFill>
                <a:srgbClr val="ffffff"/>
              </a:solidFill>
              <a:latin typeface="Tahoma"/>
            </a:endParaRPr>
          </a:p>
          <a:p>
            <a:pPr marL="332640" indent="-332640">
              <a:lnSpc>
                <a:spcPct val="90000"/>
              </a:lnSpc>
              <a:spcBef>
                <a:spcPts val="9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Identify where the patient is on the continuum and act appropriately.</a:t>
            </a:r>
            <a:endParaRPr b="0" lang="en-US" sz="3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sis</a:t>
            </a:r>
            <a:br>
              <a:rPr sz="4400"/>
            </a:br>
            <a:r>
              <a:rPr b="0" lang="en-US" sz="3800" spc="-1" strike="noStrike">
                <a:solidFill>
                  <a:srgbClr val="010000"/>
                </a:solidFill>
                <a:latin typeface="Tahoma"/>
              </a:rPr>
              <a:t>Standard of Care Interventions</a:t>
            </a:r>
            <a:endParaRPr b="0" lang="en-US" sz="3800" spc="-1" strike="noStrike">
              <a:solidFill>
                <a:srgbClr val="ff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luid Resuscitation</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timicrobial treatment</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modynamic monitoring</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asopressor support for hypotension </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entilatory support for respiratory failure</a:t>
            </a:r>
            <a:endParaRPr b="0" lang="en-US" sz="36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3" name="PlaceHolder 2"/>
          <p:cNvSpPr>
            <a:spLocks noGrp="1"/>
          </p:cNvSpPr>
          <p:nvPr>
            <p:ph/>
          </p:nvPr>
        </p:nvSpPr>
        <p:spPr>
          <a:xfrm>
            <a:off x="762120" y="533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vious studies were in the ICU starting 24-72 hours into the course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vers study started at hour 1 in the ER</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identification of the </a:t>
            </a:r>
            <a:r>
              <a:rPr b="0" lang="en-US" sz="3600" spc="-1" strike="noStrike">
                <a:solidFill>
                  <a:srgbClr val="ffffff"/>
                </a:solidFill>
                <a:latin typeface="Tahoma"/>
              </a:rPr>
              <a:t>“golden hour”</a:t>
            </a:r>
            <a:r>
              <a:rPr b="0" lang="en-US" sz="3600" spc="-1" strike="noStrike">
                <a:solidFill>
                  <a:srgbClr val="ffffff"/>
                </a:solidFill>
                <a:latin typeface="Tahoma"/>
              </a:rPr>
              <a:t>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nderstanding that </a:t>
            </a:r>
            <a:r>
              <a:rPr b="0" lang="en-US" sz="3600" spc="-1" strike="noStrike">
                <a:solidFill>
                  <a:srgbClr val="ffffff"/>
                </a:solidFill>
                <a:latin typeface="Tahoma"/>
              </a:rPr>
              <a:t>“time is tissue”</a:t>
            </a:r>
            <a:endParaRPr b="0" lang="en-US" sz="36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4" name="Text Box 4"/>
          <p:cNvSpPr/>
          <p:nvPr/>
        </p:nvSpPr>
        <p:spPr>
          <a:xfrm>
            <a:off x="4094640" y="6235560"/>
            <a:ext cx="391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ivers, et al. NEJM, Vol.345;19:200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10670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a:t>
            </a:r>
            <a:endParaRPr b="0" lang="en-US" sz="4400" spc="-1" strike="noStrike">
              <a:solidFill>
                <a:srgbClr val="ffffff"/>
              </a:solidFill>
              <a:latin typeface="Tahoma"/>
            </a:endParaRPr>
          </a:p>
        </p:txBody>
      </p:sp>
      <p:sp>
        <p:nvSpPr>
          <p:cNvPr id="52" name="PlaceHolder 2"/>
          <p:cNvSpPr>
            <a:spLocks noGrp="1"/>
          </p:cNvSpPr>
          <p:nvPr>
            <p:ph/>
          </p:nvPr>
        </p:nvSpPr>
        <p:spPr>
          <a:xfrm>
            <a:off x="685800" y="761760"/>
            <a:ext cx="7772400" cy="47242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ccounts for 10% of deaths annually with a 30% mortality rate</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deaths from sepsis each year than Myocardial Infarction</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lls more than breast, colon, pancreatic &amp; prostate cancer combined</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ne cause of multiple-organ failure and death in patients with critical illness</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incidence without any significant change in mortality over past 30 year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3" name="Text Box 4"/>
          <p:cNvSpPr/>
          <p:nvPr/>
        </p:nvSpPr>
        <p:spPr>
          <a:xfrm>
            <a:off x="3962520" y="5943600"/>
            <a:ext cx="48765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Angus DC, et al. Crit Care Med 2001;29:11303-1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Dombrovskiy V, et al.. Crit Care Med. 2007;35:124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6" name="PlaceHolder 2"/>
          <p:cNvSpPr>
            <a:spLocks noGrp="1"/>
          </p:cNvSpPr>
          <p:nvPr>
            <p:ph/>
          </p:nvPr>
        </p:nvSpPr>
        <p:spPr>
          <a:xfrm>
            <a:off x="7621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rgency of the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hour time frame from identification to achievement of clinical goals</a:t>
            </a:r>
            <a:endParaRPr b="0" lang="en-US" sz="3200" spc="-1" strike="noStrike">
              <a:solidFill>
                <a:srgbClr val="ffffff"/>
              </a:solidFill>
              <a:latin typeface="Tahoma"/>
            </a:endParaRPr>
          </a:p>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arameters we use to assess the severity of illness and the adequacy of our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VP, MAP, Urine Output, Lactic Acid, Hct, ScvO2</a:t>
            </a:r>
            <a:endParaRPr b="0" lang="en-US" sz="32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9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psis Screening Tool</a:t>
            </a:r>
            <a:endParaRPr b="0" lang="en-US" sz="4400" spc="-1" strike="noStrike">
              <a:solidFill>
                <a:srgbClr val="ffffff"/>
              </a:solidFill>
              <a:latin typeface="Tahoma"/>
            </a:endParaRPr>
          </a:p>
        </p:txBody>
      </p:sp>
      <p:pic>
        <p:nvPicPr>
          <p:cNvPr id="98" name="Content Placeholder 3" descr="SEVERE SEPSIS SCREENING TOOL 4-27-10-1.jpg"/>
          <p:cNvPicPr/>
          <p:nvPr/>
        </p:nvPicPr>
        <p:blipFill>
          <a:blip r:embed="rId1"/>
          <a:srcRect l="-22978" t="0" r="-22978" b="0"/>
          <a:stretch/>
        </p:blipFill>
        <p:spPr>
          <a:xfrm>
            <a:off x="-1447920" y="838080"/>
            <a:ext cx="12039840" cy="5867640"/>
          </a:xfrm>
          <a:prstGeom prst="rect">
            <a:avLst/>
          </a:prstGeom>
          <a:ln w="0">
            <a:noFill/>
          </a:ln>
          <a:effectLst>
            <a:outerShdw dist="12727"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arget Population</a:t>
            </a:r>
            <a:br>
              <a:rPr sz="4400"/>
            </a:br>
            <a:r>
              <a:rPr b="0" lang="en-US" sz="4400" spc="-1" strike="noStrike">
                <a:solidFill>
                  <a:srgbClr val="010000"/>
                </a:solidFill>
                <a:latin typeface="Tahoma"/>
              </a:rPr>
              <a:t>EGDT</a:t>
            </a:r>
            <a:endParaRPr b="0" lang="en-US" sz="4400" spc="-1" strike="noStrike">
              <a:solidFill>
                <a:srgbClr val="ff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evere sepsis or septic shock</a:t>
            </a:r>
            <a:endParaRPr b="0" lang="en-US" sz="3000" spc="-1" strike="noStrike">
              <a:solidFill>
                <a:srgbClr val="ffffff"/>
              </a:solidFill>
              <a:latin typeface="Tahoma"/>
            </a:endParaRPr>
          </a:p>
          <a:p>
            <a:pPr lvl="1" marL="631440" indent="-2426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must have all 3 of the following to meet this definition:</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cted infection </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east 2 of 4 SIRS criteria</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ctic Acid &gt;4 </a:t>
            </a:r>
            <a:r>
              <a:rPr b="1" lang="en-US" sz="2800" spc="-1" strike="noStrike" u="sng">
                <a:solidFill>
                  <a:srgbClr val="ffffff"/>
                </a:solidFill>
                <a:uFillTx/>
                <a:latin typeface="Tahoma"/>
              </a:rPr>
              <a:t>OR</a:t>
            </a:r>
            <a:r>
              <a:rPr b="0" lang="en-US" sz="2800" spc="-1" strike="noStrike">
                <a:solidFill>
                  <a:srgbClr val="ffffff"/>
                </a:solidFill>
                <a:latin typeface="Tahoma"/>
              </a:rPr>
              <a:t> hypotension (SBP&lt;90 or MAP&lt;65) after an adequate fluid bolus (20-30ml/kg or apx. 1-3L)</a:t>
            </a:r>
            <a:endParaRPr b="0" lang="en-US" sz="2800" spc="-1" strike="noStrike">
              <a:solidFill>
                <a:srgbClr val="ffffff"/>
              </a:solidFill>
              <a:latin typeface="Tahoma"/>
            </a:endParaRPr>
          </a:p>
          <a:p>
            <a:pPr marL="291600" indent="-29160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lusion of patients with other suspected causes of hypotension (e.g. GI bleed, myocardial infarction,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640"/>
            <a:ext cx="82296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Is This Septic Shock?</a:t>
            </a:r>
            <a:endParaRPr b="0" lang="en-US" sz="4400" spc="-1" strike="noStrike">
              <a:solidFill>
                <a:srgbClr val="ffffff"/>
              </a:solidFill>
              <a:latin typeface="Tahoma"/>
            </a:endParaRPr>
          </a:p>
        </p:txBody>
      </p:sp>
      <p:sp>
        <p:nvSpPr>
          <p:cNvPr id="102" name="PlaceHolder 2"/>
          <p:cNvSpPr>
            <a:spLocks noGrp="1"/>
          </p:cNvSpPr>
          <p:nvPr>
            <p:ph/>
          </p:nvPr>
        </p:nvSpPr>
        <p:spPr>
          <a:xfrm>
            <a:off x="-360" y="1904760"/>
            <a:ext cx="404028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ypovolemic Shock</a:t>
            </a:r>
            <a:endParaRPr b="0" lang="en-US" sz="2400" spc="-1" strike="noStrike">
              <a:solidFill>
                <a:srgbClr val="ffffff"/>
              </a:solidFill>
              <a:latin typeface="Tahoma"/>
            </a:endParaRPr>
          </a:p>
        </p:txBody>
      </p:sp>
      <p:sp>
        <p:nvSpPr>
          <p:cNvPr id="103" name=""/>
          <p:cNvSpPr txBox="1"/>
          <p:nvPr/>
        </p:nvSpPr>
        <p:spPr>
          <a:xfrm>
            <a:off x="-360" y="2590560"/>
            <a:ext cx="4040280" cy="186372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ptut</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4" name="PlaceHolder 3"/>
          <p:cNvSpPr>
            <a:spLocks noGrp="1"/>
          </p:cNvSpPr>
          <p:nvPr>
            <p:ph/>
          </p:nvPr>
        </p:nvSpPr>
        <p:spPr>
          <a:xfrm>
            <a:off x="5101920" y="1828440"/>
            <a:ext cx="404172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diogenic Shock</a:t>
            </a:r>
            <a:endParaRPr b="0" lang="en-US" sz="2400" spc="-1" strike="noStrike">
              <a:solidFill>
                <a:srgbClr val="ffffff"/>
              </a:solidFill>
              <a:latin typeface="Tahoma"/>
            </a:endParaRPr>
          </a:p>
        </p:txBody>
      </p:sp>
      <p:sp>
        <p:nvSpPr>
          <p:cNvPr id="105" name=""/>
          <p:cNvSpPr txBox="1"/>
          <p:nvPr/>
        </p:nvSpPr>
        <p:spPr>
          <a:xfrm>
            <a:off x="5101920" y="2362320"/>
            <a:ext cx="4041720" cy="193968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contractility</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tput</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6" name="TextBox 8"/>
          <p:cNvSpPr/>
          <p:nvPr/>
        </p:nvSpPr>
        <p:spPr>
          <a:xfrm>
            <a:off x="609480" y="457200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Both hypovolemic and cardiogenic shock are PUMP PROBLEMS.  Body’s homeostatic mechanisms are INTACT</a:t>
            </a:r>
            <a:endParaRPr b="0" lang="en-US" sz="3600" spc="-1" strike="noStrike">
              <a:solidFill>
                <a:srgbClr val="ffffff"/>
              </a:solidFill>
              <a:latin typeface="Tahoma"/>
            </a:endParaRPr>
          </a:p>
        </p:txBody>
      </p:sp>
      <p:sp>
        <p:nvSpPr>
          <p:cNvPr id="107" name="TextBox 9"/>
          <p:cNvSpPr/>
          <p:nvPr/>
        </p:nvSpPr>
        <p:spPr>
          <a:xfrm>
            <a:off x="3048120" y="762120"/>
            <a:ext cx="3352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HR)(SV)             BP=(CO)(SVR)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tic Shock</a:t>
            </a:r>
            <a:endParaRPr b="0" lang="en-US" sz="4400" spc="-1" strike="noStrike">
              <a:solidFill>
                <a:srgbClr val="ffffff"/>
              </a:solidFill>
              <a:latin typeface="Tahoma"/>
            </a:endParaRPr>
          </a:p>
        </p:txBody>
      </p:sp>
      <p:sp>
        <p:nvSpPr>
          <p:cNvPr id="109" name=""/>
          <p:cNvSpPr txBox="1"/>
          <p:nvPr/>
        </p:nvSpPr>
        <p:spPr>
          <a:xfrm>
            <a:off x="533160" y="1676160"/>
            <a:ext cx="8001000" cy="47242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reased SVR          BAD HUMOR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othelial/cellular dysfunction</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organ failure</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ung</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ney</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ver</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rt</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tting derangements</a:t>
            </a:r>
            <a:endParaRPr b="0" lang="en-US" sz="3200" spc="-1" strike="noStrike">
              <a:solidFill>
                <a:srgbClr val="ffffff"/>
              </a:solidFill>
              <a:latin typeface="Tahoma"/>
            </a:endParaRPr>
          </a:p>
        </p:txBody>
      </p:sp>
      <p:sp>
        <p:nvSpPr>
          <p:cNvPr id="110" name="TextBox 3"/>
          <p:cNvSpPr/>
          <p:nvPr/>
        </p:nvSpPr>
        <p:spPr>
          <a:xfrm>
            <a:off x="5181480" y="2819520"/>
            <a:ext cx="36576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ahoma"/>
              </a:rPr>
              <a:t>Toxins!!</a:t>
            </a:r>
            <a:endParaRPr b="0" lang="en-US" sz="8000" spc="-1" strike="noStrike">
              <a:solidFill>
                <a:srgbClr val="ffffff"/>
              </a:solidFill>
              <a:latin typeface="Tahoma"/>
            </a:endParaRPr>
          </a:p>
        </p:txBody>
      </p:sp>
      <p:pic>
        <p:nvPicPr>
          <p:cNvPr id="111" name="Picture 4" descr="cytokines receptors.jpg"/>
          <p:cNvPicPr/>
          <p:nvPr/>
        </p:nvPicPr>
        <p:blipFill>
          <a:blip r:embed="rId1"/>
          <a:stretch/>
        </p:blipFill>
        <p:spPr>
          <a:xfrm>
            <a:off x="5791320" y="4191120"/>
            <a:ext cx="2997000" cy="23112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9">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9">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 </a:t>
            </a:r>
            <a:r>
              <a:rPr b="0" i="1" lang="en-US" sz="4400" spc="-1" strike="noStrike">
                <a:solidFill>
                  <a:srgbClr val="010000"/>
                </a:solidFill>
                <a:latin typeface="Tahoma"/>
              </a:rPr>
              <a:t>Time is Tissue</a:t>
            </a:r>
            <a:endParaRPr b="0" lang="en-US" sz="4400" spc="-1" strike="noStrike">
              <a:solidFill>
                <a:srgbClr val="ffffff"/>
              </a:solidFill>
              <a:latin typeface="Tahoma"/>
            </a:endParaRPr>
          </a:p>
        </p:txBody>
      </p:sp>
      <p:sp>
        <p:nvSpPr>
          <p:cNvPr id="113" name="PlaceHolder 2"/>
          <p:cNvSpPr>
            <a:spLocks noGrp="1"/>
          </p:cNvSpPr>
          <p:nvPr>
            <p:ph/>
          </p:nvPr>
        </p:nvSpPr>
        <p:spPr>
          <a:xfrm>
            <a:off x="685800" y="205740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pid resuscitation with colloid or crystalloid </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NS bolus followed by q30 minute repeated bolus to goal of CVP 8-12</a:t>
            </a:r>
            <a:endParaRPr b="0" lang="en-US" sz="2800" spc="-1" strike="noStrike">
              <a:solidFill>
                <a:srgbClr val="ffffff"/>
              </a:solidFill>
              <a:latin typeface="Tahoma"/>
            </a:endParaRPr>
          </a:p>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arly Broad-Spectrum Antibiotics</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cultures and administer antibiotics within 1 hour of identified sepsis ca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5" name="PlaceHolder 2"/>
          <p:cNvSpPr>
            <a:spLocks noGrp="1"/>
          </p:cNvSpPr>
          <p:nvPr>
            <p:ph/>
          </p:nvPr>
        </p:nvSpPr>
        <p:spPr>
          <a:xfrm>
            <a:off x="60948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Fluid Resuscitation</a:t>
            </a:r>
            <a:endParaRPr b="0" lang="en-US" sz="36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gin fluid resuscitation in ER/floor while patient is being moved to the ICU</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 NS bolus: 20-30ml/k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500ml bolus every 30 minutes to achieve CVP of 8-12mm H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echanically ventilated patients, target CVP is 12-15 mm Hg</a:t>
            </a:r>
            <a:endParaRPr b="0" lang="en-US" sz="3200" spc="-1" strike="noStrike">
              <a:solidFill>
                <a:srgbClr val="ffffff"/>
              </a:solidFill>
              <a:latin typeface="Tahoma"/>
            </a:endParaRPr>
          </a:p>
        </p:txBody>
      </p:sp>
      <p:sp>
        <p:nvSpPr>
          <p:cNvPr id="116" name="Text Box 4"/>
          <p:cNvSpPr/>
          <p:nvPr/>
        </p:nvSpPr>
        <p:spPr>
          <a:xfrm>
            <a:off x="3341880" y="6248520"/>
            <a:ext cx="517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llinger RP, et al. Crit Care Med Vol.32;3:200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8" name="PlaceHolder 2"/>
          <p:cNvSpPr>
            <a:spLocks noGrp="1"/>
          </p:cNvSpPr>
          <p:nvPr>
            <p:ph/>
          </p:nvPr>
        </p:nvSpPr>
        <p:spPr>
          <a:xfrm>
            <a:off x="5335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2000"/>
          </a:bodyPr>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ultures and Antibiotics</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biotics administered within 1 hour of identification</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ediate cultures and work-up:</a:t>
            </a:r>
            <a:endParaRPr b="0" lang="en-US" sz="32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ood (2 peripheral), Urine, Sputum (gram stain and culture), CXR.</a:t>
            </a:r>
            <a:endParaRPr b="0" lang="en-US" sz="28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atient has an indwelling central line than this line should be removed or changed over a wire with the tip sent for cult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Directed Therapy</a:t>
            </a:r>
            <a:endParaRPr b="0" lang="en-US" sz="4400" spc="-1" strike="noStrike">
              <a:solidFill>
                <a:srgbClr val="ffffff"/>
              </a:solidFill>
              <a:latin typeface="Tahoma"/>
            </a:endParaRPr>
          </a:p>
        </p:txBody>
      </p:sp>
      <p:sp>
        <p:nvSpPr>
          <p:cNvPr id="120"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0000"/>
          </a:bodyPr>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tral line</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CVP 8-12</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 cc/kg/hr</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mean arterial pressure to ≥65</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pamine or norepinephrine</a:t>
            </a:r>
            <a:endParaRPr b="0" lang="en-US" sz="28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ScvO</a:t>
            </a:r>
            <a:r>
              <a:rPr b="0" lang="en-US" sz="3200" spc="-1" strike="noStrike" baseline="-25000">
                <a:solidFill>
                  <a:srgbClr val="ffffff"/>
                </a:solidFill>
                <a:latin typeface="Tahoma"/>
              </a:rPr>
              <a:t>2</a:t>
            </a:r>
            <a:r>
              <a:rPr b="0" lang="en-US" sz="3200" spc="-1" strike="noStrike">
                <a:solidFill>
                  <a:srgbClr val="ffffff"/>
                </a:solidFill>
                <a:latin typeface="Tahoma"/>
              </a:rPr>
              <a:t> &gt;70 </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gb</a:t>
            </a:r>
            <a:endParaRPr b="0" lang="en-US" sz="28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butam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Establish Central Venous Access</a:t>
            </a:r>
            <a:endParaRPr b="0" lang="en-US" sz="30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provide vasopressor support safely without increasing risk for peripheral ischemia</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VP </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8-12 mm Hg (12-15 mm Hg in mechanically ventilated patient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entral venous 02 saturation:</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ScvO2&gt;70% </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13716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 - 2010</a:t>
            </a:r>
            <a:endParaRPr b="0" lang="en-US" sz="4400" spc="-1" strike="noStrike">
              <a:solidFill>
                <a:srgbClr val="ffffff"/>
              </a:solidFill>
              <a:latin typeface="Tahoma"/>
            </a:endParaRPr>
          </a:p>
        </p:txBody>
      </p:sp>
      <p:sp>
        <p:nvSpPr>
          <p:cNvPr id="55" name=""/>
          <p:cNvSpPr txBox="1"/>
          <p:nvPr/>
        </p:nvSpPr>
        <p:spPr>
          <a:xfrm>
            <a:off x="0" y="1142640"/>
            <a:ext cx="9144000" cy="57150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rther analysis suggests regional &amp; demographic variations in incidence &amp; mortality that may be important</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mates range from 660,000 to 750,000 cases annually with mortality rates from 18% to 30%</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ghest regional incidence &amp; mortality  was in contiguous Southeastern &amp; Midatlantic states</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age, male sex &amp; Black race confer significantly increased risk for incidence, severity &amp; mortality in sepsis </a:t>
            </a:r>
            <a:endParaRPr b="0" lang="en-US" sz="2800" spc="-1" strike="noStrike">
              <a:solidFill>
                <a:srgbClr val="ffffff"/>
              </a:solidFill>
              <a:latin typeface="Tahoma"/>
            </a:endParaRPr>
          </a:p>
        </p:txBody>
      </p:sp>
      <p:sp>
        <p:nvSpPr>
          <p:cNvPr id="56" name="TextBox 3"/>
          <p:cNvSpPr/>
          <p:nvPr/>
        </p:nvSpPr>
        <p:spPr>
          <a:xfrm>
            <a:off x="2878200" y="5943600"/>
            <a:ext cx="5207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tin GSN Engl J Med. 2003 Apr 17;348(16):1546-5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gus DC Crit Care Med. 2001 Jul;29(7):1303-10</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g HE Int J Health Geogr. 2010 Feb 15;9: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graphicFrame>
        <p:nvGraphicFramePr>
          <p:cNvPr id="123" name=""/>
          <p:cNvGraphicFramePr/>
          <p:nvPr/>
        </p:nvGraphicFramePr>
        <p:xfrm>
          <a:off x="380880" y="990720"/>
          <a:ext cx="8153640" cy="5402160"/>
        </p:xfrm>
        <a:graphic>
          <a:graphicData uri="http://schemas.openxmlformats.org/drawingml/2006/table">
            <a:tbl>
              <a:tblPr/>
              <a:tblGrid>
                <a:gridCol w="1749600"/>
                <a:gridCol w="1455840"/>
                <a:gridCol w="1222200"/>
                <a:gridCol w="1749600"/>
                <a:gridCol w="1976400"/>
              </a:tblGrid>
              <a:tr h="1009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Medicatio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ceptor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I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hro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os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76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p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 ß</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                  Yes</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r>
                        <a:rPr b="0" lang="en-US" sz="1800" spc="-1" strike="noStrike">
                          <a:solidFill>
                            <a:srgbClr val="ffff00"/>
                          </a:solidFill>
                          <a:latin typeface="Arial Narrow"/>
                        </a:rPr>
                        <a:t>Vasoconstriction effec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5-10 mcg/kg/min</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gt; 1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18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but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ß</a:t>
                      </a:r>
                      <a:r>
                        <a:rPr b="0" lang="en-US" sz="1800" spc="-1" strike="noStrike" baseline="-14000">
                          <a:solidFill>
                            <a:srgbClr val="ffff00"/>
                          </a:solidFill>
                          <a:latin typeface="Arial Narrow"/>
                        </a:rPr>
                        <a:t>1</a:t>
                      </a:r>
                      <a:r>
                        <a:rPr b="0" lang="en-US" sz="1800" spc="-1" strike="noStrike">
                          <a:solidFill>
                            <a:srgbClr val="ffff00"/>
                          </a:solidFill>
                          <a:latin typeface="Arial Narrow"/>
                        </a:rPr>
                        <a:t> and ß</a:t>
                      </a:r>
                      <a:r>
                        <a:rPr b="0" lang="en-US" sz="1800" spc="-1" strike="noStrike" baseline="-14000">
                          <a:solidFill>
                            <a:srgbClr val="ffff00"/>
                          </a:solidFill>
                          <a:latin typeface="Arial Narrow"/>
                        </a:rPr>
                        <a:t>2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vasodilato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2.5 - 2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79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Norepinephrine (Levoph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N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03 – 1.5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7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Phenylephrine (Neosynephr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 Vasoconstrictio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5 - 8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24" name="TextBox 4"/>
          <p:cNvSpPr/>
          <p:nvPr/>
        </p:nvSpPr>
        <p:spPr>
          <a:xfrm>
            <a:off x="1600200" y="228600"/>
            <a:ext cx="754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Tahoma"/>
              </a:rPr>
              <a:t>Vasopressors Smorgasboard</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5"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D903-031E-45F8-AE84-5604C8382833}" type="slidenum">
              <a:rPr b="0" lang="en-US" sz="1400" spc="-1" strike="noStrike">
                <a:solidFill>
                  <a:srgbClr val="ffffff"/>
                </a:solidFill>
                <a:latin typeface="Tahoma"/>
              </a:rPr>
              <a:t>&lt;number&gt;</a:t>
            </a:fld>
            <a:endParaRPr b="0" lang="en-US" sz="1400" spc="-1" strike="noStrike">
              <a:solidFill>
                <a:srgbClr val="ffffff"/>
              </a:solidFill>
              <a:latin typeface="Tahoma"/>
            </a:endParaRPr>
          </a:p>
        </p:txBody>
      </p:sp>
      <p:sp>
        <p:nvSpPr>
          <p:cNvPr id="12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sopressors and Inotropes</a:t>
            </a:r>
            <a:endParaRPr b="0" lang="en-US" sz="4400" spc="-1" strike="noStrike">
              <a:solidFill>
                <a:srgbClr val="ffffff"/>
              </a:solidFill>
              <a:latin typeface="Tahoma"/>
            </a:endParaRPr>
          </a:p>
        </p:txBody>
      </p:sp>
      <p:sp>
        <p:nvSpPr>
          <p:cNvPr id="127" name="Line 4"/>
          <p:cNvSpPr/>
          <p:nvPr/>
        </p:nvSpPr>
        <p:spPr>
          <a:xfrm>
            <a:off x="914400" y="3048120"/>
            <a:ext cx="7315200" cy="0"/>
          </a:xfrm>
          <a:prstGeom prst="line">
            <a:avLst/>
          </a:prstGeom>
          <a:ln w="2635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28" name="AutoShape 5"/>
          <p:cNvSpPr/>
          <p:nvPr/>
        </p:nvSpPr>
        <p:spPr>
          <a:xfrm>
            <a:off x="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29" name="Text Box 6"/>
          <p:cNvSpPr/>
          <p:nvPr/>
        </p:nvSpPr>
        <p:spPr>
          <a:xfrm>
            <a:off x="0" y="1981080"/>
            <a:ext cx="1600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α</a:t>
            </a:r>
            <a:endParaRPr b="0" lang="en-US" sz="3200" spc="-1" strike="noStrike">
              <a:solidFill>
                <a:srgbClr val="ffffff"/>
              </a:solidFill>
              <a:latin typeface="Tahoma"/>
            </a:endParaRPr>
          </a:p>
        </p:txBody>
      </p:sp>
      <p:sp>
        <p:nvSpPr>
          <p:cNvPr id="130" name="AutoShape 10"/>
          <p:cNvSpPr/>
          <p:nvPr/>
        </p:nvSpPr>
        <p:spPr>
          <a:xfrm>
            <a:off x="7315200" y="1981080"/>
            <a:ext cx="1676520" cy="914400"/>
          </a:xfrm>
          <a:prstGeom prst="downArrowCallout">
            <a:avLst>
              <a:gd name="adj1" fmla="val 45841"/>
              <a:gd name="adj2" fmla="val 45837"/>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1" name="Text Box 11"/>
          <p:cNvSpPr/>
          <p:nvPr/>
        </p:nvSpPr>
        <p:spPr>
          <a:xfrm>
            <a:off x="7391520" y="19810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β</a:t>
            </a:r>
            <a:endParaRPr b="0" lang="en-US" sz="3200" spc="-1" strike="noStrike">
              <a:solidFill>
                <a:srgbClr val="ffffff"/>
              </a:solidFill>
              <a:latin typeface="Tahoma"/>
            </a:endParaRPr>
          </a:p>
        </p:txBody>
      </p:sp>
      <p:grpSp>
        <p:nvGrpSpPr>
          <p:cNvPr id="132" name="Group 26"/>
          <p:cNvGrpSpPr/>
          <p:nvPr/>
        </p:nvGrpSpPr>
        <p:grpSpPr>
          <a:xfrm>
            <a:off x="745920" y="3178440"/>
            <a:ext cx="854280" cy="2460240"/>
            <a:chOff x="745920" y="3178440"/>
            <a:chExt cx="854280" cy="2460240"/>
          </a:xfrm>
        </p:grpSpPr>
        <p:sp>
          <p:nvSpPr>
            <p:cNvPr id="133" name="AutoShape 12"/>
            <p:cNvSpPr/>
            <p:nvPr/>
          </p:nvSpPr>
          <p:spPr>
            <a:xfrm>
              <a:off x="762120" y="3276360"/>
              <a:ext cx="838080" cy="236232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4" name="Text Box 16"/>
            <p:cNvSpPr/>
            <p:nvPr/>
          </p:nvSpPr>
          <p:spPr>
            <a:xfrm>
              <a:off x="990720" y="335268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5" name="Text Box 17"/>
            <p:cNvSpPr/>
            <p:nvPr/>
          </p:nvSpPr>
          <p:spPr>
            <a:xfrm rot="11091000">
              <a:off x="837720" y="320004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Phenylephrine</a:t>
              </a:r>
              <a:endParaRPr b="0" lang="en-US" sz="2800" spc="-1" strike="noStrike">
                <a:solidFill>
                  <a:srgbClr val="ffffff"/>
                </a:solidFill>
                <a:latin typeface="Tahoma"/>
              </a:endParaRPr>
            </a:p>
          </p:txBody>
        </p:sp>
      </p:grpSp>
      <p:grpSp>
        <p:nvGrpSpPr>
          <p:cNvPr id="136" name="Group 27"/>
          <p:cNvGrpSpPr/>
          <p:nvPr/>
        </p:nvGrpSpPr>
        <p:grpSpPr>
          <a:xfrm>
            <a:off x="1981080" y="3276720"/>
            <a:ext cx="852840" cy="2361960"/>
            <a:chOff x="1981080" y="3276720"/>
            <a:chExt cx="852840" cy="2361960"/>
          </a:xfrm>
        </p:grpSpPr>
        <p:sp>
          <p:nvSpPr>
            <p:cNvPr id="137" name="AutoShape 13"/>
            <p:cNvSpPr/>
            <p:nvPr/>
          </p:nvSpPr>
          <p:spPr>
            <a:xfrm>
              <a:off x="19810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8" name="Text Box 18"/>
            <p:cNvSpPr/>
            <p:nvPr/>
          </p:nvSpPr>
          <p:spPr>
            <a:xfrm rot="11091000">
              <a:off x="2134800" y="33001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Norepinephrine</a:t>
              </a:r>
              <a:endParaRPr b="0" lang="en-US" sz="2800" spc="-1" strike="noStrike">
                <a:solidFill>
                  <a:srgbClr val="ffffff"/>
                </a:solidFill>
                <a:latin typeface="Tahoma"/>
              </a:endParaRPr>
            </a:p>
          </p:txBody>
        </p:sp>
      </p:grpSp>
      <p:grpSp>
        <p:nvGrpSpPr>
          <p:cNvPr id="139" name="Group 28"/>
          <p:cNvGrpSpPr/>
          <p:nvPr/>
        </p:nvGrpSpPr>
        <p:grpSpPr>
          <a:xfrm>
            <a:off x="3793680" y="3276720"/>
            <a:ext cx="854640" cy="2361960"/>
            <a:chOff x="3793680" y="3276720"/>
            <a:chExt cx="854640" cy="2361960"/>
          </a:xfrm>
        </p:grpSpPr>
        <p:sp>
          <p:nvSpPr>
            <p:cNvPr id="140" name="AutoShape 14"/>
            <p:cNvSpPr/>
            <p:nvPr/>
          </p:nvSpPr>
          <p:spPr>
            <a:xfrm>
              <a:off x="38098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1" name="Text Box 19"/>
            <p:cNvSpPr/>
            <p:nvPr/>
          </p:nvSpPr>
          <p:spPr>
            <a:xfrm rot="11091000">
              <a:off x="388548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Epinephrine</a:t>
              </a:r>
              <a:endParaRPr b="0" lang="en-US" sz="2800" spc="-1" strike="noStrike">
                <a:solidFill>
                  <a:srgbClr val="ffffff"/>
                </a:solidFill>
                <a:latin typeface="Tahoma"/>
              </a:endParaRPr>
            </a:p>
          </p:txBody>
        </p:sp>
      </p:grpSp>
      <p:grpSp>
        <p:nvGrpSpPr>
          <p:cNvPr id="142" name="Group 29"/>
          <p:cNvGrpSpPr/>
          <p:nvPr/>
        </p:nvGrpSpPr>
        <p:grpSpPr>
          <a:xfrm>
            <a:off x="6934320" y="3276720"/>
            <a:ext cx="851040" cy="2361960"/>
            <a:chOff x="6934320" y="3276720"/>
            <a:chExt cx="851040" cy="2361960"/>
          </a:xfrm>
        </p:grpSpPr>
        <p:sp>
          <p:nvSpPr>
            <p:cNvPr id="143" name="AutoShape 15"/>
            <p:cNvSpPr/>
            <p:nvPr/>
          </p:nvSpPr>
          <p:spPr>
            <a:xfrm>
              <a:off x="6934320" y="3276720"/>
              <a:ext cx="83808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4" name="Text Box 20"/>
            <p:cNvSpPr/>
            <p:nvPr/>
          </p:nvSpPr>
          <p:spPr>
            <a:xfrm rot="11091000">
              <a:off x="708624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Dobutamine</a:t>
              </a:r>
              <a:endParaRPr b="0" lang="en-US" sz="2800" spc="-1" strike="noStrike">
                <a:solidFill>
                  <a:srgbClr val="ffffff"/>
                </a:solidFill>
                <a:latin typeface="Tahoma"/>
              </a:endParaRPr>
            </a:p>
          </p:txBody>
        </p:sp>
      </p:grpSp>
      <p:sp>
        <p:nvSpPr>
          <p:cNvPr id="145" name="AutoShape 22"/>
          <p:cNvSpPr/>
          <p:nvPr/>
        </p:nvSpPr>
        <p:spPr>
          <a:xfrm>
            <a:off x="342900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Alpha=Beta</a:t>
            </a:r>
            <a:endParaRPr b="0" lang="en-US" sz="2800" spc="-1" strike="noStrike">
              <a:solidFill>
                <a:srgbClr val="ffffff"/>
              </a:solidFill>
              <a:latin typeface="Tahoma"/>
            </a:endParaRPr>
          </a:p>
        </p:txBody>
      </p:sp>
      <p:grpSp>
        <p:nvGrpSpPr>
          <p:cNvPr id="146" name="Group 30"/>
          <p:cNvGrpSpPr/>
          <p:nvPr/>
        </p:nvGrpSpPr>
        <p:grpSpPr>
          <a:xfrm>
            <a:off x="2743200" y="6095880"/>
            <a:ext cx="3124080" cy="457200"/>
            <a:chOff x="2743200" y="6095880"/>
            <a:chExt cx="3124080" cy="457200"/>
          </a:xfrm>
        </p:grpSpPr>
        <p:sp>
          <p:nvSpPr>
            <p:cNvPr id="147" name="Rectangle 23"/>
            <p:cNvSpPr/>
            <p:nvPr/>
          </p:nvSpPr>
          <p:spPr>
            <a:xfrm>
              <a:off x="2820960" y="6095880"/>
              <a:ext cx="3046320" cy="457200"/>
            </a:xfrm>
            <a:prstGeom prst="rect">
              <a:avLst/>
            </a:prstGeom>
            <a:solidFill>
              <a:srgbClr val="dac92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8" name="Text Box 24"/>
            <p:cNvSpPr/>
            <p:nvPr/>
          </p:nvSpPr>
          <p:spPr>
            <a:xfrm>
              <a:off x="2743200" y="6095880"/>
              <a:ext cx="3046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Dopamine</a:t>
              </a:r>
              <a:endParaRPr b="0" lang="en-US" sz="2000" spc="-1" strike="noStrike">
                <a:solidFill>
                  <a:srgbClr val="ffffff"/>
                </a:solidFill>
                <a:latin typeface="Tahoma"/>
              </a:endParaRPr>
            </a:p>
          </p:txBody>
        </p:sp>
      </p:grpSp>
      <p:sp>
        <p:nvSpPr>
          <p:cNvPr id="149" name="Text Box 25"/>
          <p:cNvSpPr/>
          <p:nvPr/>
        </p:nvSpPr>
        <p:spPr>
          <a:xfrm>
            <a:off x="5867280" y="5904000"/>
            <a:ext cx="2286000" cy="7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dose </a:t>
            </a:r>
            <a:r>
              <a:rPr b="0" lang="en-US" sz="1800" spc="-1" strike="noStrike">
                <a:solidFill>
                  <a:srgbClr val="ffffff"/>
                </a:solidFill>
                <a:latin typeface="Tahoma"/>
              </a:rPr>
              <a:t>(&lt;10mcg/kg/min)</a:t>
            </a:r>
            <a:endParaRPr b="0" lang="en-US" sz="1800" spc="-1" strike="noStrike">
              <a:solidFill>
                <a:srgbClr val="ffffff"/>
              </a:solidFill>
              <a:latin typeface="Tahoma"/>
            </a:endParaRPr>
          </a:p>
        </p:txBody>
      </p:sp>
      <p:sp>
        <p:nvSpPr>
          <p:cNvPr id="150" name="Text Box 26"/>
          <p:cNvSpPr/>
          <p:nvPr/>
        </p:nvSpPr>
        <p:spPr>
          <a:xfrm>
            <a:off x="1066680" y="586728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dose</a:t>
            </a:r>
            <a:endParaRPr b="0" lang="en-US" sz="2800" spc="-1" strike="noStrike">
              <a:solidFill>
                <a:srgbClr val="ffffff"/>
              </a:solidFill>
              <a:latin typeface="Tahoma"/>
            </a:endParaRPr>
          </a:p>
        </p:txBody>
      </p:sp>
      <p:sp>
        <p:nvSpPr>
          <p:cNvPr id="151" name="Line 27"/>
          <p:cNvSpPr/>
          <p:nvPr/>
        </p:nvSpPr>
        <p:spPr>
          <a:xfrm flipH="1">
            <a:off x="205704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52" name="Line 28"/>
          <p:cNvSpPr/>
          <p:nvPr/>
        </p:nvSpPr>
        <p:spPr>
          <a:xfrm>
            <a:off x="640080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Steroids</a:t>
            </a:r>
            <a:endParaRPr b="0" lang="en-US" sz="4400" spc="-1" strike="noStrike">
              <a:solidFill>
                <a:srgbClr val="ffffff"/>
              </a:solidFill>
              <a:latin typeface="Tahoma"/>
            </a:endParaRPr>
          </a:p>
        </p:txBody>
      </p:sp>
      <p:sp>
        <p:nvSpPr>
          <p:cNvPr id="154"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IV hydrocortisone if blood pressure responds poorly to fluid resuscitation and pressor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drocortisone dose ≤ 300 mg/day</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H stim test no longer recommended</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an steroids once pressors are off</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steroids in the absence of shock unless there are other medical indication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rhAPC</a:t>
            </a:r>
            <a:endParaRPr b="0" lang="en-US" sz="4400" spc="-1" strike="noStrike">
              <a:solidFill>
                <a:srgbClr val="ffffff"/>
              </a:solidFill>
              <a:latin typeface="Tahoma"/>
            </a:endParaRPr>
          </a:p>
        </p:txBody>
      </p:sp>
      <p:sp>
        <p:nvSpPr>
          <p:cNvPr id="156" name=""/>
          <p:cNvSpPr txBox="1"/>
          <p:nvPr/>
        </p:nvSpPr>
        <p:spPr>
          <a:xfrm>
            <a:off x="609480" y="1676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rhAPC in adult patients with sepsis-induced organ dysfunction with clinical assessment of high risk of death (typically APACHE II 25 or multiple organ failure) if there are no contraindications</a:t>
            </a:r>
            <a:endParaRPr b="0" lang="en-US" sz="3200" spc="-1" strike="noStrike">
              <a:solidFill>
                <a:srgbClr val="ffffff"/>
              </a:solidFill>
              <a:latin typeface="Tahoma"/>
            </a:endParaRPr>
          </a:p>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 patients with severe sepsis and low risk of death (typically, APACHE II 20 or one organ failure) should not receive rhAP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Blood</a:t>
            </a:r>
            <a:endParaRPr b="0" lang="en-US" sz="4400" spc="-1" strike="noStrike">
              <a:solidFill>
                <a:srgbClr val="ffffff"/>
              </a:solidFill>
              <a:latin typeface="Tahoma"/>
            </a:endParaRPr>
          </a:p>
        </p:txBody>
      </p:sp>
      <p:sp>
        <p:nvSpPr>
          <p:cNvPr id="158" name=""/>
          <p:cNvSpPr txBox="1"/>
          <p:nvPr/>
        </p:nvSpPr>
        <p:spPr>
          <a:xfrm>
            <a:off x="609480" y="1523520"/>
            <a:ext cx="7772400" cy="4953240"/>
          </a:xfrm>
          <a:prstGeom prst="rect">
            <a:avLst/>
          </a:prstGeom>
          <a:noFill/>
          <a:ln w="0">
            <a:noFill/>
          </a:ln>
          <a:effectLst>
            <a:outerShdw dist="12727" dir="2700000" blurRad="0" rotWithShape="0">
              <a:srgbClr val="808080">
                <a:alpha val="75000"/>
              </a:srgbClr>
            </a:outerShdw>
          </a:effectLst>
        </p:spPr>
        <p:txBody>
          <a:bodyPr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red blood cells when hemoglobin decreases to 7.0 g/dL unless there is another medical indication (MI, severe hypoxia, EGDT goals, etc.)</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erythropoietin to treat sepsis-related anemia.</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FFP only if active bleeding or planned procedure</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platelets only if indic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0" name="PlaceHolder 2"/>
          <p:cNvSpPr>
            <a:spLocks noGrp="1"/>
          </p:cNvSpPr>
          <p:nvPr>
            <p:ph/>
          </p:nvPr>
        </p:nvSpPr>
        <p:spPr>
          <a:xfrm>
            <a:off x="68580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entral Venous Oxygen Saturation (Scv02):</a:t>
            </a:r>
            <a:endParaRPr b="0" lang="en-US" sz="32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al: Scv02&gt;70%</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cv02&lt;70% suggests maximal extraction and 02 delivery may be insufficient</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ptimization of 02 delivery:</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fusions to HCT&gt;30%</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obutamine titrated to Scv02&gt;70%</a:t>
            </a:r>
            <a:endParaRPr b="0" lang="en-US" sz="3000" spc="-1" strike="noStrike">
              <a:solidFill>
                <a:srgbClr val="ffffff"/>
              </a:solidFill>
              <a:latin typeface="Tahoma"/>
            </a:endParaRPr>
          </a:p>
          <a:p>
            <a:pPr lvl="1" marL="705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ther Goals</a:t>
            </a:r>
            <a:endParaRPr b="0" lang="en-US" sz="36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ml/kg/hour </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ate: &lt;4mmol/L</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02: &gt;92%</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uids, 02 supplementation or other interventions may be used by the treating physician to achieve these goal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endParaRPr b="0" lang="en-US" sz="4400" spc="-1" strike="noStrike">
              <a:solidFill>
                <a:srgbClr val="ffffff"/>
              </a:solidFill>
              <a:latin typeface="Tahoma"/>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l signs, laboratory data, cardiac monitoring, pulse oximetry, urinary catheterization, central venous catheterization, CVPs</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data:</a:t>
            </a:r>
            <a:endParaRPr b="0" lang="en-US" sz="3200" spc="-1" strike="noStrike">
              <a:solidFill>
                <a:srgbClr val="ffffff"/>
              </a:solidFill>
              <a:latin typeface="Tahoma"/>
            </a:endParaRPr>
          </a:p>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Metabolic panels, Mg, PO4, CBC, Lactic acid, Scv02, IN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lang="en-US" sz="4400" spc="-1" strike="noStrike">
                <a:solidFill>
                  <a:srgbClr val="010000"/>
                </a:solidFill>
                <a:latin typeface="Tahoma"/>
              </a:rPr>
              <a:t>Summary</a:t>
            </a:r>
            <a:endParaRPr b="0" lang="en-US" sz="4400" spc="-1" strike="noStrike">
              <a:solidFill>
                <a:srgbClr val="ffffff"/>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Early recognition and resuscitation is the key to survival in sepsi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ime is Tissue</a:t>
            </a:r>
            <a:r>
              <a:rPr b="0" lang="en-US" sz="2800" spc="-1" strike="noStrike">
                <a:solidFill>
                  <a:srgbClr val="ffffff"/>
                </a:solidFill>
                <a:latin typeface="Tahoma"/>
              </a:rPr>
              <a:t>  and we need to use the </a:t>
            </a:r>
            <a:r>
              <a:rPr b="1" i="1" lang="en-US" sz="2800" spc="-1" strike="noStrike">
                <a:solidFill>
                  <a:srgbClr val="ffffff"/>
                </a:solidFill>
                <a:latin typeface="Tahoma"/>
              </a:rPr>
              <a:t>golden hours</a:t>
            </a:r>
            <a:r>
              <a:rPr b="0" lang="en-US" sz="2800" spc="-1" strike="noStrike">
                <a:solidFill>
                  <a:srgbClr val="ffffff"/>
                </a:solidFill>
                <a:latin typeface="Tahoma"/>
              </a:rPr>
              <a:t>  to achieve these goal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VP&gt; 8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gt; 65 mm Hg or SBP&gt; 90 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CT &gt; 30% or Hgb &gt; 9.0</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v02&gt;70%</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72 year old man was admitted with ACS.  He has no ECG changes and negative enzymes.  On day #2, he has a fever to 102.5 and shaking chills.  His BP is 100/60, HR 60, RR 34, Pox 92%.  His left sided chest pain now has a pleuritic component.  His medications are ASA, Enoxaparin, Atenolol, Lipitor, HCTZ.</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you want to do next?</a:t>
            </a:r>
            <a:endParaRPr b="0" lang="en-US" sz="2800" spc="-1" strike="noStrike">
              <a:solidFill>
                <a:srgbClr val="ffffff"/>
              </a:solidFill>
              <a:latin typeface="Tahoma"/>
            </a:endParaRPr>
          </a:p>
        </p:txBody>
      </p:sp>
      <p:pic>
        <p:nvPicPr>
          <p:cNvPr id="169" name="Picture 4" descr="DrStrangelove.jpg"/>
          <p:cNvPicPr/>
          <p:nvPr/>
        </p:nvPicPr>
        <p:blipFill>
          <a:blip r:embed="rId1"/>
          <a:stretch/>
        </p:blipFill>
        <p:spPr>
          <a:xfrm>
            <a:off x="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000"/>
                </a:solidFill>
                <a:latin typeface="Tahoma"/>
              </a:rPr>
              <a:t>History of Clinical Sepsis</a:t>
            </a:r>
            <a:endParaRPr b="0" lang="en-US" sz="4000" spc="-1" strike="noStrike">
              <a:solidFill>
                <a:srgbClr val="ffffff"/>
              </a:solidFill>
              <a:latin typeface="Tahoma"/>
            </a:endParaRPr>
          </a:p>
        </p:txBody>
      </p:sp>
      <p:sp>
        <p:nvSpPr>
          <p:cNvPr id="58" name=""/>
          <p:cNvSpPr/>
          <p:nvPr/>
        </p:nvSpPr>
        <p:spPr>
          <a:xfrm>
            <a:off x="228600" y="15238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You would have to ask the gods for Help:</a:t>
            </a:r>
            <a:endParaRPr b="0" lang="en-US" sz="2800" spc="-1" strike="noStrike">
              <a:solidFill>
                <a:srgbClr val="ffffff"/>
              </a:solidFill>
              <a:latin typeface="Tahoma"/>
            </a:endParaRPr>
          </a:p>
        </p:txBody>
      </p:sp>
      <p:pic>
        <p:nvPicPr>
          <p:cNvPr id="59" name="WarriorWoman" descr=""/>
          <p:cNvPicPr/>
          <p:nvPr/>
        </p:nvPicPr>
        <p:blipFill>
          <a:blip r:embed="rId1"/>
          <a:stretch/>
        </p:blipFill>
        <p:spPr>
          <a:xfrm>
            <a:off x="762120" y="2209680"/>
            <a:ext cx="3198600" cy="4264200"/>
          </a:xfrm>
          <a:prstGeom prst="rect">
            <a:avLst/>
          </a:prstGeom>
          <a:ln w="0">
            <a:noFill/>
          </a:ln>
        </p:spPr>
      </p:pic>
      <p:pic>
        <p:nvPicPr>
          <p:cNvPr id="60" name="ElephantGod" descr=""/>
          <p:cNvPicPr/>
          <p:nvPr/>
        </p:nvPicPr>
        <p:blipFill>
          <a:blip r:embed="rId2"/>
          <a:stretch/>
        </p:blipFill>
        <p:spPr>
          <a:xfrm>
            <a:off x="4800600" y="2133720"/>
            <a:ext cx="3370320" cy="4492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tells you that he feels short of breath.  His BP is now 85/40.  He does not feel well but he does not feel presyncopal or lightheaded.  The primary MD arrives at the bedside and orders an EC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other interventions would you recommend at this moment?</a:t>
            </a:r>
            <a:endParaRPr b="0" lang="en-US" sz="2800" spc="-1" strike="noStrike">
              <a:solidFill>
                <a:srgbClr val="ffffff"/>
              </a:solidFill>
              <a:latin typeface="Tahoma"/>
            </a:endParaRPr>
          </a:p>
        </p:txBody>
      </p:sp>
      <p:pic>
        <p:nvPicPr>
          <p:cNvPr id="172" name="Picture 3" descr="DrStrangelove.jpg"/>
          <p:cNvPicPr/>
          <p:nvPr/>
        </p:nvPicPr>
        <p:blipFill>
          <a:blip r:embed="rId1"/>
          <a:stretch/>
        </p:blipFill>
        <p:spPr>
          <a:xfrm>
            <a:off x="609480" y="228600"/>
            <a:ext cx="1625760" cy="16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100 kg.  So you give him 2L NS bolus over the next 45 minutes.  His BP comes up to 110/50.  Blood cultures, sputum gram stain and culture, U/A, urine culture and CXR are completed. You start the antibiotics.  His labs return and his WBC count is 18.0 and his Lactic Acid is 4.2.</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he be started on the early goal directed therapy?  Does he meet the criteria?  What is the next step?</a:t>
            </a:r>
            <a:endParaRPr b="0" lang="en-US" sz="2800" spc="-1" strike="noStrike">
              <a:solidFill>
                <a:srgbClr val="ffffff"/>
              </a:solidFill>
              <a:latin typeface="Tahoma"/>
            </a:endParaRPr>
          </a:p>
        </p:txBody>
      </p:sp>
      <p:pic>
        <p:nvPicPr>
          <p:cNvPr id="175" name="Picture 3" descr="DrStrangelove.jpg"/>
          <p:cNvPicPr/>
          <p:nvPr/>
        </p:nvPicPr>
        <p:blipFill>
          <a:blip r:embed="rId1"/>
          <a:stretch/>
        </p:blipFill>
        <p:spPr>
          <a:xfrm>
            <a:off x="609480" y="30492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_x0016_A man &amp; A bug</a:t>
            </a:r>
            <a:endParaRPr b="0" lang="en-US" sz="4400" spc="-1" strike="noStrike">
              <a:solidFill>
                <a:srgbClr val="ffffff"/>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J line is placed and his CVP is 5.  The doctor orders a 500ml NS bolus and then LR at 100ml/hour.  One hour later his CVP is 6 and his BP has been trending down and is now 88/46.  His other labs are back which include a creatinine of 1.6, an anion gap of 15.  His CXR shows a LLL consolidation.</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78" name="Picture 3" descr="DrStrangelove.jpg"/>
          <p:cNvPicPr/>
          <p:nvPr/>
        </p:nvPicPr>
        <p:blipFill>
          <a:blip r:embed="rId1"/>
          <a:stretch/>
        </p:blipFill>
        <p:spPr>
          <a:xfrm>
            <a:off x="533520" y="304920"/>
            <a:ext cx="1625400" cy="1625400"/>
          </a:xfrm>
          <a:prstGeom prst="rect">
            <a:avLst/>
          </a:prstGeom>
          <a:ln w="0">
            <a:noFill/>
          </a:ln>
        </p:spPr>
      </p:pic>
      <p:pic>
        <p:nvPicPr>
          <p:cNvPr id="179" name="Picture 4" descr="ist2_9678853-nasty-germ-microbe.jpg"/>
          <p:cNvPicPr/>
          <p:nvPr/>
        </p:nvPicPr>
        <p:blipFill>
          <a:blip r:embed="rId2"/>
          <a:stretch/>
        </p:blipFill>
        <p:spPr>
          <a:xfrm>
            <a:off x="7315200" y="457200"/>
            <a:ext cx="1442880" cy="152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ontinue to give him repeated boluses as well as maintenance fluids but his ongoing hypotension requires vasopressor support.  The Doctor orders Dopamine starting at 5mcg/kg/min.  His heart rate increases to 108 but his pressure is still only 92/40</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82" name="Picture 3" descr="ist2_9678853-nasty-germ-microbe.jpg"/>
          <p:cNvPicPr/>
          <p:nvPr/>
        </p:nvPicPr>
        <p:blipFill>
          <a:blip r:embed="rId1"/>
          <a:stretch/>
        </p:blipFill>
        <p:spPr>
          <a:xfrm>
            <a:off x="7010280" y="0"/>
            <a:ext cx="1722600" cy="203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4" name="PlaceHolder 2"/>
          <p:cNvSpPr>
            <a:spLocks noGrp="1"/>
          </p:cNvSpPr>
          <p:nvPr>
            <p:ph/>
          </p:nvPr>
        </p:nvSpPr>
        <p:spPr>
          <a:xfrm>
            <a:off x="685800" y="12193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2000"/>
          </a:bodyPr>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dose of dopamine is likely having more beta effects than alpha effects resulting in increased heart rate and inotropy but not in increased SVR.  You suggest that the dopamine be titrated to BP to meet the goal MAP of &gt;65.  You titrate the dopamine up to 14mcg/kg/min.  After 5 liters of fluid and titration of dopamine, his CVP is now 9 and his SBP is 100-110 with a MAP of 70.  His pulse oximetry is 92% and his RR is 28.  His CBC shows a WBC of 18 and a Hgb of 7.</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were to follow the algorithm, what is your next step?</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5" name="Picture 3" descr="ist2_9678853-nasty-germ-microbe.jpg"/>
          <p:cNvPicPr/>
          <p:nvPr/>
        </p:nvPicPr>
        <p:blipFill>
          <a:blip r:embed="rId1"/>
          <a:stretch/>
        </p:blipFill>
        <p:spPr>
          <a:xfrm>
            <a:off x="7696080" y="0"/>
            <a:ext cx="9684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ant to check his urine output and ScvO2.  His urine output during the last hour was 100ml.  You send a blood sample from the central line in an ABG syringe and ask respiratory to run a central mixed venous oxygen saturation.  The ScvO2 is 74%.  </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should be done next?</a:t>
            </a:r>
            <a:endParaRPr b="0" lang="en-US" sz="3200" spc="-1" strike="noStrike">
              <a:solidFill>
                <a:srgbClr val="ffffff"/>
              </a:solidFill>
              <a:latin typeface="Tahoma"/>
            </a:endParaRPr>
          </a:p>
        </p:txBody>
      </p:sp>
      <p:pic>
        <p:nvPicPr>
          <p:cNvPr id="188" name="Picture 3" descr="ist2_9678853-nasty-germ-microbe.jpg"/>
          <p:cNvPicPr/>
          <p:nvPr/>
        </p:nvPicPr>
        <p:blipFill>
          <a:blip r:embed="rId1"/>
          <a:stretch/>
        </p:blipFill>
        <p:spPr>
          <a:xfrm>
            <a:off x="7010280" y="0"/>
            <a:ext cx="1752840" cy="206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90" name=""/>
          <p:cNvSpPr txBox="1"/>
          <p:nvPr/>
        </p:nvSpPr>
        <p:spPr>
          <a:xfrm>
            <a:off x="533160" y="1295280"/>
            <a:ext cx="838188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deep breath!</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break!</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is doing well, because you STOMPED OUT SEPSIS with Early Recognition and Early Goal-Directed Therapy</a:t>
            </a:r>
            <a:endParaRPr b="0" lang="en-US" sz="3200" spc="-1" strike="noStrike">
              <a:solidFill>
                <a:srgbClr val="ffffff"/>
              </a:solidFill>
              <a:latin typeface="Tahoma"/>
            </a:endParaRPr>
          </a:p>
        </p:txBody>
      </p:sp>
      <p:pic>
        <p:nvPicPr>
          <p:cNvPr id="191" name="SOS%20poster2" descr=""/>
          <p:cNvPicPr/>
          <p:nvPr/>
        </p:nvPicPr>
        <p:blipFill>
          <a:blip r:embed="rId1"/>
          <a:stretch/>
        </p:blipFill>
        <p:spPr>
          <a:xfrm>
            <a:off x="2133720" y="4046400"/>
            <a:ext cx="5105160" cy="281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History of Clinical Sepsis:</a:t>
            </a:r>
            <a:endParaRPr b="0" lang="en-US" sz="4400" spc="-1" strike="noStrike">
              <a:solidFill>
                <a:srgbClr val="ffffff"/>
              </a:solidFill>
              <a:latin typeface="Tahoma"/>
            </a:endParaRPr>
          </a:p>
        </p:txBody>
      </p:sp>
      <p:sp>
        <p:nvSpPr>
          <p:cNvPr id="62" name=""/>
          <p:cNvSpPr/>
          <p:nvPr/>
        </p:nvSpPr>
        <p:spPr>
          <a:xfrm>
            <a:off x="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han Came Antibiotics:</a:t>
            </a:r>
            <a:endParaRPr b="0" lang="en-US" sz="2800" spc="-1" strike="noStrike">
              <a:solidFill>
                <a:srgbClr val="ffffff"/>
              </a:solidFill>
              <a:latin typeface="Tahoma"/>
            </a:endParaRPr>
          </a:p>
        </p:txBody>
      </p:sp>
      <p:sp>
        <p:nvSpPr>
          <p:cNvPr id="63" name=""/>
          <p:cNvSpPr/>
          <p:nvPr/>
        </p:nvSpPr>
        <p:spPr>
          <a:xfrm>
            <a:off x="990720" y="2743200"/>
            <a:ext cx="7543800" cy="30978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inherit"/>
                <a:ea typeface="Lucida Sans Unicode"/>
              </a:rPr>
              <a:t>The First Use of Penicillin in the United States   Charles M. Grossman  Ann Intern Med July 15, 2008 149:135136</a:t>
            </a: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Tahoma"/>
              </a:rPr>
              <a:t>33 yo woman with septicemia with beta-hemolytic streptococc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ahoma"/>
              </a:rPr>
              <a:t>Epidemiology of Sepsis CCRMC </a:t>
            </a:r>
            <a:endParaRPr b="0" lang="en-US" sz="3600" spc="-1" strike="noStrike">
              <a:solidFill>
                <a:srgbClr val="ffffff"/>
              </a:solidFill>
              <a:latin typeface="Tahoma"/>
            </a:endParaRPr>
          </a:p>
        </p:txBody>
      </p:sp>
      <p:pic>
        <p:nvPicPr>
          <p:cNvPr id="65" name="Content Placeholder 3" descr="2009 Total Mortality.jpg"/>
          <p:cNvPicPr/>
          <p:nvPr/>
        </p:nvPicPr>
        <p:blipFill>
          <a:blip r:embed="rId1"/>
          <a:srcRect l="6265" t="5345" r="7238" b="26975"/>
          <a:stretch/>
        </p:blipFill>
        <p:spPr>
          <a:xfrm>
            <a:off x="0" y="1143000"/>
            <a:ext cx="9101160" cy="4038480"/>
          </a:xfrm>
          <a:prstGeom prst="rect">
            <a:avLst/>
          </a:prstGeom>
          <a:ln w="0">
            <a:noFill/>
          </a:ln>
          <a:effectLst>
            <a:outerShdw dist="12727" dir="2700000" blurRad="0" rotWithShape="0">
              <a:srgbClr val="808080">
                <a:alpha val="75000"/>
              </a:srgbClr>
            </a:outerShdw>
          </a:effectLst>
        </p:spPr>
      </p:pic>
      <p:sp>
        <p:nvSpPr>
          <p:cNvPr id="66" name="TextBox 4"/>
          <p:cNvSpPr/>
          <p:nvPr/>
        </p:nvSpPr>
        <p:spPr>
          <a:xfrm>
            <a:off x="380880" y="53341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EAR</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CASES(ICD-9 D/C DX)</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MORTALITIE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2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78 (24%)</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6-8</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27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7 (29%)</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5</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15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23 (2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oday’s Objectives</a:t>
            </a:r>
            <a:endParaRPr b="0" lang="en-US" sz="4400" spc="-1" strike="noStrike">
              <a:solidFill>
                <a:srgbClr val="ffffff"/>
              </a:solidFill>
              <a:latin typeface="Tahoma"/>
            </a:endParaRPr>
          </a:p>
        </p:txBody>
      </p:sp>
      <p:sp>
        <p:nvSpPr>
          <p:cNvPr id="68" name=""/>
          <p:cNvSpPr txBox="1"/>
          <p:nvPr/>
        </p:nvSpPr>
        <p:spPr>
          <a:xfrm>
            <a:off x="685800" y="13716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  Understand the clinical features associated with Sepsis.</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  Understand the spectrum of disease in Sepsis and be able to define the criteria that distinguish Sepsis from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  Be able to define the basic principles of "Early Goal-Directed Therapy" for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4.  Become familiar with the CCRMC sepsis screening tool; its utility and limit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2009)</a:t>
            </a:r>
            <a:endParaRPr b="0" lang="en-US" sz="4400" spc="-1" strike="noStrike">
              <a:solidFill>
                <a:srgbClr val="ffffff"/>
              </a:solidFill>
              <a:latin typeface="Tahoma"/>
            </a:endParaRPr>
          </a:p>
        </p:txBody>
      </p:sp>
      <p:sp>
        <p:nvSpPr>
          <p:cNvPr id="70" name=""/>
          <p:cNvSpPr txBox="1"/>
          <p:nvPr/>
        </p:nvSpPr>
        <p:spPr>
          <a:xfrm>
            <a:off x="228240" y="990360"/>
            <a:ext cx="8915400" cy="56386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2 yo man with DM2 &amp; HTN presented with acute GI distress with vomiting, diarrhea, poor po intake weakness, and leukocytosis. Admitted for IV hydration and antibiotic treatment. HD#2 became hypotensive to SBPs 80s-90s and was given an IV fluid bolus with initial response. HD#3, at noon, he had recurrent hypotension but was not addressed until he was noted to have a change in level of consciousness at 7PM and he was then recognized to be in septic shock and multi-organ failure. Transferred to ICU, severe sepsis bundle initiated.  He expired 2 day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5280"/>
            <a:ext cx="7772400" cy="17528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4 weeks ago)</a:t>
            </a:r>
            <a:endParaRPr b="0" lang="en-US" sz="4400" spc="-1" strike="noStrike">
              <a:solidFill>
                <a:srgbClr val="ffffff"/>
              </a:solidFill>
              <a:latin typeface="Tahoma"/>
            </a:endParaRPr>
          </a:p>
        </p:txBody>
      </p:sp>
      <p:sp>
        <p:nvSpPr>
          <p:cNvPr id="72" name=""/>
          <p:cNvSpPr txBox="1"/>
          <p:nvPr/>
        </p:nvSpPr>
        <p:spPr>
          <a:xfrm>
            <a:off x="152280" y="990360"/>
            <a:ext cx="8686800" cy="563868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6 yo man with hypoxemia, LLL consolidation and leukocytosis. He received appropriate initial treatment in ED with antibiotics but did not get aggressive fluid resuscitation because of concern for his CHF.  He developed worsening hypotension with SBPs decreased from his baseline of 130s-150s to 70s-90s.  Hypotension started in the ED and continued in the IMCU for 14 hours with poor response to repeated fluid bolus. By the next day he had oliguric renal failure, acute cardiac ischemia &amp; delirium.  After 24 hrs. of hospitalization he was transferred to the ICU to receive Sepsis bundle/EGDT with aggressive fluid resuscitation &amp; vasopressor support &amp; CVP monitoring.  Over the subsequent 48 hours he had resolution of his hypotension with improvement in his multi-organ failure.  He slowly recovered to be discharged to a SN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08:05:03Z</dcterms:created>
  <dc:creator>sara  levin</dc:creator>
  <dc:description/>
  <cp:keywords/>
  <dc:language>en-US</dc:language>
  <cp:lastModifiedBy>slevin</cp:lastModifiedBy>
  <cp:lastPrinted>2005-02-27T00:29:25Z</cp:lastPrinted>
  <dcterms:modified xsi:type="dcterms:W3CDTF">2010-04-30T19:10:36Z</dcterms:modified>
  <cp:revision>43</cp:revision>
  <dc:subject/>
  <dc:title>Surviving Sepsis</dc:title>
</cp:coreProperties>
</file>